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16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10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879-8C12-4790-9687-7B1596EC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9E3-A22D-4871-B9A8-C73A95DD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7D1D7-3E9D-4DCC-AD01-5E6C326F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9F639-5F74-4B40-BB72-197CDDF7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59B7C-879E-4636-A81B-A2CE9523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1FFCB-5CDB-42D6-8838-28A0CFA8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00123-2938-432C-A0F5-16BFED40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125E3-FC41-481C-9D77-69EE3048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0CB73-045B-49B5-BC80-2CA3D1B4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66576-5BE2-4BCE-B7C3-0FBAAA8B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8C32F-8837-4EC2-9C3D-7D5C1588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AAAE8-A2CC-4014-8AA1-98161D48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F21-F358-42F2-918B-F48E352C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B1006-5308-4E49-818D-B9A5CA85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0FE92-893A-4A99-8A33-EBAACFC0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A4E35-BD65-46C5-B8E8-5DAA7EFC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7335C-DD2F-4F27-9D5E-E27D97AB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B620E-B54E-4F7F-9B18-1FF81A8C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3D7E8-D10C-4528-8CE8-301C5ED1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7B6B8-D909-471B-B76F-E53AEE3D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0A71C-5B19-4F3B-829E-A2975F48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F467E-3F06-44A7-8497-CE9360C4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3DC87-DEF2-44C8-83EA-85B72AF7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715-D7EC-4D74-8D69-4A34DDF3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901A7-6A9C-44D6-BD2D-E78F5DFA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9E450-16AB-4898-8BC0-B1406730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62777-BC9C-43B9-8757-4B37A88D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1FEC8-1802-4A5F-94F2-408600F4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AE2B0-BEF9-4ADB-8B57-19DA734B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A8D14-F5A1-48BF-A4CA-CFFD8FD9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0FD33-1848-4788-8944-CF756E65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8B3CF-6ABB-4EAB-A206-42EDD0F0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8C70C-79BC-4A77-8269-D145067B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C6DAB-57D2-4D27-89D2-356F688D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9475-1EE3-4F05-96CD-FAE27116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F0E1A-8E8B-4CAB-8C33-786A0811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240A8-6F5F-4E26-A68C-2202F701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5BEE4-B9D5-4A77-94B9-4F6F2A12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46489-F7F5-472E-A041-20473339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97E3A-136D-4092-B6F2-E7ACCCAD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B875C-AD18-43A2-BB1C-CFEC896C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4B210-34B8-4D69-AF36-65ABCFEF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3ECCE-3AAC-48F7-A3BF-805E98A7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FDB49-69BD-430C-A612-949B2F47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D457B-34FF-413B-9FD4-499A2333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EFE9-51F5-4B22-B757-68CB38E1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53AC4-40E2-47C7-B446-B79E50E5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B009B-4957-4D42-9BD6-F6EA6DFA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6A681-2F14-46A9-828C-C26AA1E2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F4506-03BE-4335-AF6A-4A4851AB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1EC64-5CE2-4ACA-8ECE-8556462A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BBE1-609A-4596-8672-E4676417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AB8E-2AF7-4814-9A3C-4346D0D6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8200-4450-43D6-88D1-A035F15A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52C6-FE7F-4275-B185-DE6401BC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46C3-6C6C-41D1-8CD7-0C9620E4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BB2-EA41-4E12-94E8-05B54129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0D6C-AB6F-4527-9E23-30A26EF2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06CA-52C1-4CA1-A4AB-947041C9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442C-45C6-45DD-A48D-B4C5F589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D631-4B4C-444F-B5F4-48F6C87C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60E8-08AF-4284-81E7-8D4E3BEF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0A8CD-B88D-4EB9-B283-D4EC87B6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657AA-A527-43E7-82D1-1F66515E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DCCE-323C-4670-8D77-474D0E83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3CD7-31C5-4F6E-B420-3385C3D2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B715-F17D-4FCF-9CE7-F239AB77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7E8-FFF9-4163-864F-83B97C63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AB722-C2CC-4D0E-8FAD-E92AC0B2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8CF3A-2A0C-4615-8328-861B7594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C88D-0196-4E0B-8808-26AE070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075B-C45C-47A9-8867-259A976E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395F-0CF0-423E-8FA8-1FD8BC08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4A5AF-9199-4474-93A6-20831341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F23D0-3228-4099-9F41-89670D3F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277C-649C-4F95-B087-52D65C51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F920E-82D2-4042-BFA7-A22ADD93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F456E-E6FE-4FFE-9DE1-8AB94DAC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CA6-AAAE-4F9E-BB74-62740025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02086-A4AB-402F-B724-0B009CFB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905B6-0CD0-420C-A078-9C8A1872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6DDDC-0DFE-4656-991C-18DC0DB3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C1B16-7A04-496C-90CC-8DF384D1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566C-9F1E-4528-BE7B-59E70DEF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F3BD-A8F3-4AD8-B83A-77395924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BE213-D872-4766-80FB-FCCF5626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CD53C-A799-4292-AEA3-89E566CC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3E3B3-C434-496E-A3E6-B9075641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59FC1-1F10-4A93-BCA1-22608699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5DD-3FD2-4CCA-B25B-CCCE2A20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0ABEE-AD5D-4048-9B76-2286D7D7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ADF19-7BB8-4A27-BE81-5A62CED8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4DE05-7B82-47B8-9420-668E2F00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0227-A225-430F-97B6-D2D12BE3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A55EA-4458-4645-A4C5-C37504AD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F0062-024C-48AA-B262-BF93DC63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94B28-E8B7-4796-B8F5-5C94C2B9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2E49A-E4C0-4962-B385-F79CD9C4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44FA4-3F9D-4C7A-BA7D-B159BCA4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31965-0200-4883-88BB-F0F0B096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FB2-75EA-4747-B3CF-8DC3B233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A287E-8A11-4015-B111-03F71208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85B22-517D-44D9-8829-3A90DC21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0B973-1604-4B14-A972-344EAC6E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3A587-0310-41D7-A401-0AC867C1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8DCA4-B9DA-44AB-8EC3-0D2B873B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1575D-5B9A-46A1-888F-2A722280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F3E23-8CB4-4E39-8AE9-FF763F6F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E718E-74F7-4926-B159-86FD9C4F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690F3-11AC-4B9D-96F3-987EA58B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BEC69-BE35-4F44-8886-0C797CB3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8FC-0F8C-431B-9129-BF1E6954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E181F-BF63-42D2-A99B-AEAF701C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7959D-744C-455E-8967-AAFCCE36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C1EEB-75DD-454F-A37A-0F08534F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9EB87-1F2B-438C-B891-E1890FE2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BDF5F-2C56-497E-8C38-B361AD28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7A526-B784-4E30-A1DC-D6EE64B8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BAF0C-0808-4D91-974D-A9016F9F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8F442-D801-4F5E-AD6E-C8FB1AA9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86DAF-8287-4D04-8FD7-6F516E44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5C01B-B722-456F-83A8-DBD8604C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324D-9C20-4473-BFB3-90FE9FC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076A4-BBB2-4EE4-B0FA-A9CADEA0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A7871-1DA6-48C1-A60F-6622AE44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D4676-CB7A-4390-B131-FD7D6D6E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64D11-AE1E-4302-BEC8-02B8FD95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3445F-435F-4753-B1DC-184C6284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F2091-3D5B-42C4-887A-633B11BE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40FA0-29B8-4E55-B2FC-589E987C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E7D42-18CF-4DF5-BC98-93854641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E5392-9A75-4D7E-ADEE-5750B721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CA725-BCEE-4DFE-ABBF-FD6B662F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D55-2841-4017-BDF3-4FF5D28C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BD1AC-8A9F-4F55-BFB9-BFC639C8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A1A15-3712-4D3C-BF0F-7346689F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055A1-D8FD-4318-9879-16D4364C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5A6CD-AFF2-4013-958B-0E62DAB3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69DE3-4C09-49EC-B4E7-5A83A596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9E8C1-05E4-4D56-8F1C-90B8D572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299D2-2E19-4A1F-91AC-F27BEE5E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EBBB1-9532-4B6C-897B-40187830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DB39D-1B52-4C1A-9F62-0EB3ADB0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E290B-5F88-4203-A8D3-E36AF731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B0F1-6AA3-4DEF-BE75-A11F6DCB1D4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D888-7DE4-4784-9F3F-A801E8D1F40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9F13-1F48-4D44-AA19-CAB9F986A7D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32CA-E1A3-4CB7-BDED-1C4E1A27866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0912-C1AC-4E81-8AFB-8B5D37EA58D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5D6C-3CF7-46A2-BD97-EEDE7C9913F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F050-1B8F-4566-819C-8121EFA2EC1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6EEE-506D-437C-A75E-C819509863B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FA9E-9827-4D2E-AE76-FAD87707D8A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6AF5-A20A-4BAA-9A23-DE4D1CB226D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D1B1-8AC9-4FE8-BA91-6B2AE1C720C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4AA8-E516-48F4-985A-190C45EDEB7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2.jpeg"/><Relationship Id="rId8" Type="http://schemas.openxmlformats.org/officeDocument/2006/relationships/image" Target="../media/image12.png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2.jpeg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2.jpeg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gif"/><Relationship Id="rId9" Type="http://schemas.openxmlformats.org/officeDocument/2006/relationships/image" Target="../media/image6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8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2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jpe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olika je duljina dužine?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olika je površi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Slika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108000" y="115920"/>
            <a:ext cx="864072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olika je površin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Veličina plohe nekog tijela ili lika jest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površi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jerna jedinica površine jest kvadratni metar i jednaka je površini kvadrata duljine stranice 1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oš neke mjerne jedinice površi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Slika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30" name="Slika 1" descr=""/>
          <p:cNvPicPr/>
          <p:nvPr/>
        </p:nvPicPr>
        <p:blipFill>
          <a:blip r:embed="rId8"/>
          <a:stretch/>
        </p:blipFill>
        <p:spPr>
          <a:xfrm>
            <a:off x="1849320" y="2773440"/>
            <a:ext cx="5156280" cy="1601640"/>
          </a:xfrm>
          <a:prstGeom prst="rect">
            <a:avLst/>
          </a:prstGeom>
          <a:ln w="0">
            <a:noFill/>
          </a:ln>
        </p:spPr>
      </p:pic>
      <p:pic>
        <p:nvPicPr>
          <p:cNvPr id="531" name="Slika 4" descr=""/>
          <p:cNvPicPr/>
          <p:nvPr/>
        </p:nvPicPr>
        <p:blipFill>
          <a:blip r:embed="rId9">
            <a:lum contrast="12000"/>
          </a:blip>
          <a:stretch/>
        </p:blipFill>
        <p:spPr>
          <a:xfrm>
            <a:off x="152280" y="5013360"/>
            <a:ext cx="8552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179280" y="3474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mjeriti površin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avilnih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tije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) izravnim mjerenje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ko zadane površine nacrta se mreža kvadrata odabrane jedinične površ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34" name="Slika 6" descr=""/>
          <p:cNvPicPr/>
          <p:nvPr/>
        </p:nvPicPr>
        <p:blipFill>
          <a:blip r:embed="rId6">
            <a:lum contrast="46000"/>
          </a:blip>
          <a:stretch/>
        </p:blipFill>
        <p:spPr>
          <a:xfrm>
            <a:off x="3166920" y="3573360"/>
            <a:ext cx="31021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179280" y="3474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mjeriti površin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avilnih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tije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) mjerenje duljine stranica i računanj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ršina pravokutnika odredi se množenjem duljine stranice s duljinom druge stra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37" name="Slika 1" descr=""/>
          <p:cNvPicPr/>
          <p:nvPr/>
        </p:nvPicPr>
        <p:blipFill>
          <a:blip r:embed="rId5"/>
          <a:stretch/>
        </p:blipFill>
        <p:spPr>
          <a:xfrm>
            <a:off x="1908000" y="3463920"/>
            <a:ext cx="51152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179280" y="3474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mjeriti površin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pravilnih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je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ravnim mjerenje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ko zadane površine nacrta se mreža kvadrata odabrane jedinične površ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40" name="Slika 1" descr=""/>
          <p:cNvPicPr/>
          <p:nvPr/>
        </p:nvPicPr>
        <p:blipFill>
          <a:blip r:embed="rId6">
            <a:lum contrast="28000"/>
          </a:blip>
          <a:stretch/>
        </p:blipFill>
        <p:spPr>
          <a:xfrm>
            <a:off x="3030480" y="3213000"/>
            <a:ext cx="35575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179280" y="347400"/>
            <a:ext cx="896472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1. Koliko jedan metar ima decimetara, centimetara,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ilimetar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2. Kako ćete zapisati podatak o izmjerenoj duljini olovk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3. Kako biste ravnalom izmjerili debljinu žice? Opišit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stupa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4.  Koja je mjerna jedinica površin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5. Odredi površinu poda učionice ili svoje sobe. Rezultat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skaži u kvadratnim metrima, kvadratnim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centimetrima  i kvadratnim milimetrim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43" name="Slika 1" descr=""/>
          <p:cNvPicPr/>
          <p:nvPr/>
        </p:nvPicPr>
        <p:blipFill>
          <a:blip r:embed="rId2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znač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jerit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a št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spoređivat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spoređujem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li dvije osobitosti nekog tijela, saznat ćemo koja je od njih veća, što je veće površine, mas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spoređujemo li nešto nepoznato s dobro poznatim, tad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jerimo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Picture 3" descr="baby trying on shoes.jpg"/>
          <p:cNvPicPr/>
          <p:nvPr/>
        </p:nvPicPr>
        <p:blipFill>
          <a:blip r:embed="rId4"/>
          <a:stretch/>
        </p:blipFill>
        <p:spPr>
          <a:xfrm>
            <a:off x="3276720" y="1773360"/>
            <a:ext cx="2303280" cy="1863720"/>
          </a:xfrm>
          <a:prstGeom prst="rect">
            <a:avLst/>
          </a:prstGeom>
          <a:ln w="0">
            <a:noFill/>
          </a:ln>
        </p:spPr>
      </p:pic>
      <p:pic>
        <p:nvPicPr>
          <p:cNvPr id="507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uljin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uljina je mjera za dužinu. Svaka dužina im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uljin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ako tijelo ima tri mjere (dimenzije). To s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uljin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širin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isin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znač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jeriti duljin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riti duljinu dužine znači odrediti koliko je puta mjerena dužina veća ili manja od osnovne mjerne jedi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Čime mjerimo duljine i udaljenost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Duljine mjerimo različitim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mjerkama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, kao što su: mjerna vrpca, mjerna letvica, ravnalo, dvometar, trokut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3" descr="mjerke za duljinu.jpg"/>
          <p:cNvPicPr/>
          <p:nvPr/>
        </p:nvPicPr>
        <p:blipFill>
          <a:blip r:embed="rId9"/>
          <a:stretch/>
        </p:blipFill>
        <p:spPr>
          <a:xfrm>
            <a:off x="1494000" y="1700280"/>
            <a:ext cx="6156000" cy="2790720"/>
          </a:xfrm>
          <a:prstGeom prst="rect">
            <a:avLst/>
          </a:prstGeom>
          <a:ln w="0">
            <a:noFill/>
          </a:ln>
        </p:spPr>
      </p:pic>
      <p:pic>
        <p:nvPicPr>
          <p:cNvPr id="512" name="Slika 3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250560" y="800280"/>
            <a:ext cx="84978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Koja je osnovna mjerna jedinica za duljinu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Osnovna mjerna jedinica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za duljinu je </a:t>
            </a: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metar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, znak mu je </a:t>
            </a: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Od godine 1983. metar je definiran kao duljina koju svjetlost prijeđe u vakuumu u vremenu od 1/299792458 sekun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Znate li još neke mjerne jedinice za duljinu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Slika 3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5" name="Slika 1" descr=""/>
          <p:cNvPicPr/>
          <p:nvPr/>
        </p:nvPicPr>
        <p:blipFill>
          <a:blip r:embed="rId9"/>
          <a:stretch/>
        </p:blipFill>
        <p:spPr>
          <a:xfrm>
            <a:off x="2987640" y="2133720"/>
            <a:ext cx="21765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1640" y="1196640"/>
            <a:ext cx="8280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edmetci (prefiksi) riječi 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metar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označavaju je li ta mjerna jedinica decimalni dio metra ili njegov dekadski višekratni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Slika 4" descr=""/>
          <p:cNvPicPr/>
          <p:nvPr/>
        </p:nvPicPr>
        <p:blipFill>
          <a:blip r:embed="rId2"/>
          <a:stretch/>
        </p:blipFill>
        <p:spPr>
          <a:xfrm>
            <a:off x="571680" y="2565360"/>
            <a:ext cx="7600680" cy="3683160"/>
          </a:xfrm>
          <a:prstGeom prst="rect">
            <a:avLst/>
          </a:prstGeom>
          <a:ln w="0">
            <a:noFill/>
          </a:ln>
        </p:spPr>
      </p:pic>
      <p:pic>
        <p:nvPicPr>
          <p:cNvPr id="518" name="Slika 1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datak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 Zapišite svoju visinu u različitim mjernim jedinicama, np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ja visi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72 cm = 17,2 dm = 172 cm = 1720 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Slika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79280" y="3474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iskazati fizičku veličin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Fizičku veličinu iskazuje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jezinom oznak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rojčanom vrijednošću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rnim jedinicom između kojih je razm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Slika 3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23" name="Slika 5" descr=""/>
          <p:cNvPicPr/>
          <p:nvPr/>
        </p:nvPicPr>
        <p:blipFill>
          <a:blip r:embed="rId9"/>
          <a:stretch/>
        </p:blipFill>
        <p:spPr>
          <a:xfrm>
            <a:off x="2556000" y="3753000"/>
            <a:ext cx="439236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41400" y="46620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zapisati velike i male udaljenos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Slika 3" descr=""/>
          <p:cNvPicPr/>
          <p:nvPr/>
        </p:nvPicPr>
        <p:blipFill>
          <a:blip r:embed="rId4"/>
          <a:stretch/>
        </p:blipFill>
        <p:spPr>
          <a:xfrm>
            <a:off x="-23760" y="-2700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26" name="Slika 1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244440" y="1725480"/>
            <a:ext cx="8516880" cy="719280"/>
          </a:xfrm>
          <a:prstGeom prst="rect">
            <a:avLst/>
          </a:prstGeom>
          <a:ln w="0">
            <a:noFill/>
          </a:ln>
        </p:spPr>
      </p:pic>
      <p:pic>
        <p:nvPicPr>
          <p:cNvPr id="527" name="Slika 4" descr=""/>
          <p:cNvPicPr/>
          <p:nvPr/>
        </p:nvPicPr>
        <p:blipFill>
          <a:blip r:embed="rId6">
            <a:lum contrast="28000"/>
          </a:blip>
          <a:stretch/>
        </p:blipFill>
        <p:spPr>
          <a:xfrm>
            <a:off x="244440" y="2924280"/>
            <a:ext cx="8516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19:55:46Z</dcterms:created>
  <dc:creator>Mladen Vidović</dc:creator>
  <dc:description/>
  <dc:language>en-US</dc:language>
  <cp:lastModifiedBy>MArina Dumančić</cp:lastModifiedBy>
  <dcterms:modified xsi:type="dcterms:W3CDTF">2019-09-13T20:47:09Z</dcterms:modified>
  <cp:revision>47</cp:revision>
  <dc:subject/>
  <dc:title>Mjerenje duljine</dc:title>
</cp:coreProperties>
</file>